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0D0-998E-487C-8EF4-4C75C7A8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06B-DCC8-484C-BBBA-32084A1A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A45-1AC1-48C2-8213-D1853670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867-A502-4E8F-9130-C49E371C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884-2937-411F-99BA-A774C05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5B6-4C8A-4A0B-9BBC-9BF45FE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FA6-54EB-4C2B-939A-4A2F675E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5C1-44D8-4AE9-9F97-6B54BC7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0AD-9703-480B-8BED-2CDF9489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9A2-0AFC-4289-84C6-A5EB45E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780-490A-4097-823A-F6D226E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4C6-7213-4345-B9ED-0A9B18EE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B418-DD67-4E5E-8608-2CB9635D29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veral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005" t="84391" r="0" b="7836"/>
          <a:stretch/>
        </p:blipFill>
        <p:spPr>
          <a:xfrm>
            <a:off x="1066680" y="594360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762120" y="5335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936"/>
          <a:stretch/>
        </p:blipFill>
        <p:spPr>
          <a:xfrm>
            <a:off x="99072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094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2580"/>
          <a:stretch/>
        </p:blipFill>
        <p:spPr>
          <a:xfrm>
            <a:off x="1143000" y="9144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7621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05:22Z</dcterms:modified>
  <cp:revision>217</cp:revision>
  <dc:subject/>
  <dc:title>Slide 1</dc:title>
</cp:coreProperties>
</file>